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C39E-D751-43B7-AC89-0E37A5BE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4BB8-2516-402B-8E28-F9C1D5BD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03CA-907B-463B-A6AF-972556DC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BD09-95E6-4C71-92A6-62EAD8F8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EDE5-939D-4E29-A8E4-4DE3CE7A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1AEE-17E8-40D4-9368-495CB166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5FC7-E4C0-438C-9833-AD23CD75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3890-CA31-46B9-8C7C-32749C43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6550-DCA2-4CA6-B06F-E59F95DC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FAF-101E-4D7C-A92B-78533554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16E2-568F-4692-B89C-976C9545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0F58-5974-49FF-A5BA-4F99AE98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5A49-5424-467A-ABE2-F5079F66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8B6A-115B-46F9-BB2E-595F0255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A074-15D6-4A10-BC27-37B7DD8C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947-B555-4B04-9025-DB56CF60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2A21-FE56-4FA3-886F-3AEEBE6D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A45C-9DD6-44C7-829F-61C3026F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A214-C2B1-4F4F-9999-B4491D7F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2F13-30D4-4BD2-871A-9160370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62B0-55EF-4164-ADD1-98139476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F748-5150-4892-BE9F-0116C5E9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7F29-6344-44C9-97EA-7BE25B9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483C-D445-49F9-8917-47846962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963-8DC0-4A97-B73D-B9E0D3B4105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BBAF-8A43-475F-A57C-98BAC3A95BE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283680"/>
            <a:ext cx="11279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, всички верни Твои слуг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жени са съвсе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 мъдрост, Боже, водиш г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и защита те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здух горещ, въздух студ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грижта Тво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ъздух смъртно замърс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 дишат без вре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беснее морет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вятър и въл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трах владее, знаят 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Ти далеч не С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урята повеляваш 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мощния Твой гл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лни свирепи, ярост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иряваш завч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0772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иналите милос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пеем Теб хвал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е надаем занапред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съща добрина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де сме живи, тоз живо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еб ще посвети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осле, щом кат дойдеш Т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Теб ще полетим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45:03Z</dcterms:modified>
  <cp:revision>33</cp:revision>
  <dc:subject/>
  <dc:title>Slide 1</dc:title>
</cp:coreProperties>
</file>